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775-60FD-4976-B8CA-AE11527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258-63DF-454A-BE7E-93DC1F65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3C3-9945-4882-B741-BA233366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99A-63A1-4D0A-9A16-256968E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506-6406-4E73-927C-C489038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6D2-F5D2-45F8-8459-063A34F4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91A-76A0-401C-8240-07A5FC28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976-03DD-4E88-8896-9AFCED1A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EF0-B79D-4CE9-BE2E-5A1CC589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165-B9FA-4973-8B75-30E91BCD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6B3-5F93-4F47-90DF-2B44E3E1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18C-2A3F-41B3-8B03-0D10EDE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4B8-7F89-497A-9889-47836CEF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’s awesome power-point on the possessive apostrop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57150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otball of Nick = Nick’s 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95480" y="17524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RUL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327672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97180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26708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postrop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410080"/>
            <a:ext cx="2743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7150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124080"/>
            <a:ext cx="2743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267080"/>
            <a:ext cx="27432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486400"/>
            <a:ext cx="2743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’s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64008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ketball of Michael = Michael's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po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5105520"/>
            <a:ext cx="25146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re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426708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2578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’s bask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114800"/>
            <a:ext cx="3429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out letters you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105520"/>
            <a:ext cx="3962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issing letters with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43434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53341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tra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086240" y="60955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Next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124080"/>
            <a:ext cx="228600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bas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114800"/>
            <a:ext cx="3429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out letters you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105520"/>
            <a:ext cx="396252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issing letters with apostro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32767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434340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33412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5105520"/>
            <a:ext cx="28958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11480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048120"/>
            <a:ext cx="22860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4:21:12Z</dcterms:created>
  <dc:creator>502</dc:creator>
  <dc:description/>
  <dc:language>en-US</dc:language>
  <cp:lastModifiedBy>502</cp:lastModifiedBy>
  <dcterms:modified xsi:type="dcterms:W3CDTF">2009-07-29T04:32:26Z</dcterms:modified>
  <cp:revision>2</cp:revision>
  <dc:subject/>
  <dc:title>Nick’s awesome power-point on the possessive apostrophe</dc:title>
</cp:coreProperties>
</file>